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3F4-90E9-458C-B24A-C1977F6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9EA-962A-4A9A-8087-075AD60E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9C3-A954-4A58-B0F3-659C1A3A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62D-C9E1-4E63-A3C0-8D631472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3C7-9499-473A-9976-A5EEB1C7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C08-7508-49C9-9776-81495E8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86D-F1D9-472D-A188-0E92591E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EEC-02AF-412F-B99E-DB24DCF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60A-014C-4514-93BB-31F151EF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D84-8DE7-40E0-867A-4EE3466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D0C-F8F5-42D9-BFEB-CE749E0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489-D8AC-4169-B6CE-5DE0B03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7F1B-5AB2-4060-8713-E8905BAF7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Samp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9T16:37:39Z</dcterms:created>
  <dc:creator>Djurkovic, Bojan</dc:creator>
  <dc:description/>
  <dc:language>en-US</dc:language>
  <cp:lastModifiedBy>Djurkovic, Bojan</cp:lastModifiedBy>
  <dcterms:modified xsi:type="dcterms:W3CDTF">2019-02-19T22:09:13Z</dcterms:modified>
  <cp:revision>1</cp:revision>
  <dc:subject/>
  <dc:title>Sample</dc:title>
</cp:coreProperties>
</file>